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8B1-A448-4123-9DB6-90EF686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B55-4DF0-4E8C-8983-30212515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9CD-FDD8-4068-8379-C39AFEFF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FEB-35AE-4B5A-B248-88C58601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439-A9E3-4C92-8D1D-A1C428E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5F7-065D-445C-8188-2CABE2E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098-898F-4ACD-AC52-FE33F62B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1A2-F133-463E-81E9-4266A7B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AD6-68F9-43F7-9FE7-22A5206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9A6-16B8-491F-8F95-9F37E3F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C46-07EC-4451-9493-68EA8CC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5C3-1400-49B3-A573-D8BAC4D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9F6F-CA11-48EA-8D2A-D697F9A6178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895480" y="2286000"/>
            <a:ext cx="1828800" cy="28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71800" y="2514600"/>
            <a:ext cx="1676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e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8"/>
          <p:cNvSpPr/>
          <p:nvPr/>
        </p:nvSpPr>
        <p:spPr>
          <a:xfrm>
            <a:off x="0" y="0"/>
            <a:ext cx="2895480" cy="228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10"/>
          <p:cNvSpPr/>
          <p:nvPr/>
        </p:nvSpPr>
        <p:spPr>
          <a:xfrm flipV="1">
            <a:off x="4724280" y="0"/>
            <a:ext cx="3048120" cy="228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2"/>
          <p:cNvSpPr/>
          <p:nvPr/>
        </p:nvSpPr>
        <p:spPr>
          <a:xfrm flipH="1">
            <a:off x="-360" y="5029200"/>
            <a:ext cx="2895480" cy="18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4724280" y="5029200"/>
            <a:ext cx="3048120" cy="18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1676520" y="228600"/>
            <a:ext cx="3657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you know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is is where you write everything you know from the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228600" y="2286000"/>
            <a:ext cx="2590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What you need to know: </a:t>
            </a:r>
            <a:r>
              <a:rPr b="0" lang="en-US" sz="2000" spc="-1" strike="noStrike">
                <a:solidFill>
                  <a:srgbClr val="0033cc"/>
                </a:solidFill>
                <a:latin typeface="Calibri"/>
              </a:rPr>
              <a:t>Write everything you need to figure o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2590920" y="59436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alibri"/>
              </a:rPr>
              <a:t>SOLVE!:</a:t>
            </a:r>
            <a:r>
              <a:rPr b="0" lang="en-US" sz="3200" spc="-1" strike="noStrike">
                <a:solidFill>
                  <a:srgbClr val="cc33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3399"/>
                </a:solidFill>
                <a:latin typeface="Calibri"/>
              </a:rPr>
              <a:t>Work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the answer dow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5029200" y="2209680"/>
            <a:ext cx="27432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Does my answer make sense?: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ink critically about the result you got. Does it make sense?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20"/>
          <p:cNvSpPr/>
          <p:nvPr/>
        </p:nvSpPr>
        <p:spPr>
          <a:xfrm rot="16200000">
            <a:off x="3314520" y="1561680"/>
            <a:ext cx="838440" cy="762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urved Right Arrow 21"/>
          <p:cNvSpPr/>
          <p:nvPr/>
        </p:nvSpPr>
        <p:spPr>
          <a:xfrm rot="1900800">
            <a:off x="699840" y="800280"/>
            <a:ext cx="761760" cy="1143000"/>
          </a:xfrm>
          <a:custGeom>
            <a:avLst/>
            <a:gdLst>
              <a:gd name="textAreaLeft" fmla="*/ 101880 w 761760"/>
              <a:gd name="textAreaRight" fmla="*/ 659880 w 761760"/>
              <a:gd name="textAreaTop" fmla="*/ 214200 h 1143000"/>
              <a:gd name="textAreaBottom" fmla="*/ 8334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ent-Up Arrow 23"/>
          <p:cNvSpPr/>
          <p:nvPr/>
        </p:nvSpPr>
        <p:spPr>
          <a:xfrm rot="5400000">
            <a:off x="573120" y="5750640"/>
            <a:ext cx="1251000" cy="1027080"/>
          </a:xfrm>
          <a:custGeom>
            <a:avLst/>
            <a:gdLst>
              <a:gd name="textAreaLeft" fmla="*/ 0 w 1251000"/>
              <a:gd name="textAreaRight" fmla="*/ 1122840 w 1251000"/>
              <a:gd name="textAreaTop" fmla="*/ 770400 h 1027080"/>
              <a:gd name="textAreaBottom" fmla="*/ 1027440 h 1027080"/>
            </a:gdLst>
            <a:ahLst/>
            <a:rect l="textAreaLeft" t="textAreaTop" r="textAreaRight" b="textAreaBottom"/>
            <a:pathLst>
              <a:path w="1251197" h="1026571">
                <a:moveTo>
                  <a:pt x="0" y="769928"/>
                </a:moveTo>
                <a:lnTo>
                  <a:pt x="866233" y="769928"/>
                </a:lnTo>
                <a:lnTo>
                  <a:pt x="866233" y="256643"/>
                </a:lnTo>
                <a:lnTo>
                  <a:pt x="737912" y="256643"/>
                </a:lnTo>
                <a:lnTo>
                  <a:pt x="994554" y="0"/>
                </a:lnTo>
                <a:lnTo>
                  <a:pt x="1251197" y="256643"/>
                </a:lnTo>
                <a:lnTo>
                  <a:pt x="1122876" y="256643"/>
                </a:lnTo>
                <a:lnTo>
                  <a:pt x="1122876" y="1026571"/>
                </a:lnTo>
                <a:lnTo>
                  <a:pt x="0" y="10265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ent-Up Arrow 24"/>
          <p:cNvSpPr/>
          <p:nvPr/>
        </p:nvSpPr>
        <p:spPr>
          <a:xfrm>
            <a:off x="6019920" y="5791320"/>
            <a:ext cx="1251000" cy="1027080"/>
          </a:xfrm>
          <a:custGeom>
            <a:avLst/>
            <a:gdLst>
              <a:gd name="textAreaLeft" fmla="*/ 0 w 1251000"/>
              <a:gd name="textAreaRight" fmla="*/ 1122840 w 1251000"/>
              <a:gd name="textAreaTop" fmla="*/ 770400 h 1027080"/>
              <a:gd name="textAreaBottom" fmla="*/ 1027440 h 1027080"/>
            </a:gdLst>
            <a:ahLst/>
            <a:rect l="textAreaLeft" t="textAreaTop" r="textAreaRight" b="textAreaBottom"/>
            <a:pathLst>
              <a:path w="1251197" h="1026571">
                <a:moveTo>
                  <a:pt x="0" y="769928"/>
                </a:moveTo>
                <a:lnTo>
                  <a:pt x="866233" y="769928"/>
                </a:lnTo>
                <a:lnTo>
                  <a:pt x="866233" y="256643"/>
                </a:lnTo>
                <a:lnTo>
                  <a:pt x="737912" y="256643"/>
                </a:lnTo>
                <a:lnTo>
                  <a:pt x="994554" y="0"/>
                </a:lnTo>
                <a:lnTo>
                  <a:pt x="1251197" y="256643"/>
                </a:lnTo>
                <a:lnTo>
                  <a:pt x="1122876" y="256643"/>
                </a:lnTo>
                <a:lnTo>
                  <a:pt x="1122876" y="1026571"/>
                </a:lnTo>
                <a:lnTo>
                  <a:pt x="0" y="10265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5" descr="C:\Users\100418097\AppData\Local\Microsoft\Windows\Temporary Internet Files\Content.IE5\0J40DRG6\MC900431512[1].png"/>
          <p:cNvPicPr/>
          <p:nvPr/>
        </p:nvPicPr>
        <p:blipFill>
          <a:blip r:embed="rId1"/>
          <a:stretch/>
        </p:blipFill>
        <p:spPr>
          <a:xfrm>
            <a:off x="457200" y="43434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56" name="Plus 27"/>
          <p:cNvSpPr/>
          <p:nvPr/>
        </p:nvSpPr>
        <p:spPr>
          <a:xfrm>
            <a:off x="304920" y="8763120"/>
            <a:ext cx="685800" cy="838080"/>
          </a:xfrm>
          <a:custGeom>
            <a:avLst/>
            <a:gdLst>
              <a:gd name="textAreaLeft" fmla="*/ 90720 w 685800"/>
              <a:gd name="textAreaRight" fmla="*/ 595080 w 685800"/>
              <a:gd name="textAreaTop" fmla="*/ 338400 h 838080"/>
              <a:gd name="textAreaBottom" fmla="*/ 499680 h 838080"/>
            </a:gdLst>
            <a:ahLst/>
            <a:rect l="textAreaLeft" t="textAreaTop" r="textAreaRight" b="textAreaBottom"/>
            <a:pathLst>
              <a:path w="685800" h="838200">
                <a:moveTo>
                  <a:pt x="90903" y="338450"/>
                </a:moveTo>
                <a:lnTo>
                  <a:pt x="262250" y="338450"/>
                </a:lnTo>
                <a:lnTo>
                  <a:pt x="262250" y="111103"/>
                </a:lnTo>
                <a:lnTo>
                  <a:pt x="423550" y="111103"/>
                </a:lnTo>
                <a:lnTo>
                  <a:pt x="423550" y="338450"/>
                </a:lnTo>
                <a:lnTo>
                  <a:pt x="594897" y="338450"/>
                </a:lnTo>
                <a:lnTo>
                  <a:pt x="594897" y="499750"/>
                </a:lnTo>
                <a:lnTo>
                  <a:pt x="423550" y="499750"/>
                </a:lnTo>
                <a:lnTo>
                  <a:pt x="423550" y="727097"/>
                </a:lnTo>
                <a:lnTo>
                  <a:pt x="262250" y="727097"/>
                </a:lnTo>
                <a:lnTo>
                  <a:pt x="262250" y="499750"/>
                </a:lnTo>
                <a:lnTo>
                  <a:pt x="90903" y="49975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inus 28"/>
          <p:cNvSpPr/>
          <p:nvPr/>
        </p:nvSpPr>
        <p:spPr>
          <a:xfrm>
            <a:off x="5715000" y="7848720"/>
            <a:ext cx="990720" cy="533160"/>
          </a:xfrm>
          <a:custGeom>
            <a:avLst/>
            <a:gdLst>
              <a:gd name="textAreaLeft" fmla="*/ 131040 w 990720"/>
              <a:gd name="textAreaRight" fmla="*/ 859680 w 990720"/>
              <a:gd name="textAreaTop" fmla="*/ 203760 h 533160"/>
              <a:gd name="textAreaBottom" fmla="*/ 329400 h 533160"/>
            </a:gdLst>
            <a:ahLst/>
            <a:rect l="textAreaLeft" t="textAreaTop" r="textAreaRight" b="textAreaBottom"/>
            <a:pathLst>
              <a:path w="990600" h="533400">
                <a:moveTo>
                  <a:pt x="131304" y="203972"/>
                </a:moveTo>
                <a:lnTo>
                  <a:pt x="859296" y="203972"/>
                </a:lnTo>
                <a:lnTo>
                  <a:pt x="859296" y="329428"/>
                </a:lnTo>
                <a:lnTo>
                  <a:pt x="131304" y="32942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ultiply 29"/>
          <p:cNvSpPr/>
          <p:nvPr/>
        </p:nvSpPr>
        <p:spPr>
          <a:xfrm>
            <a:off x="2133720" y="7772400"/>
            <a:ext cx="685800" cy="914400"/>
          </a:xfrm>
          <a:custGeom>
            <a:avLst/>
            <a:gdLst>
              <a:gd name="textAreaLeft" fmla="*/ 100080 w 685800"/>
              <a:gd name="textAreaRight" fmla="*/ 585720 w 685800"/>
              <a:gd name="textAreaTop" fmla="*/ 171000 h 914400"/>
              <a:gd name="textAreaBottom" fmla="*/ 743400 h 914400"/>
            </a:gdLst>
            <a:ahLst/>
            <a:rect l="textAreaLeft" t="textAreaTop" r="textAreaRight" b="textAreaBottom"/>
            <a:pathLst>
              <a:path w="685800" h="914400">
                <a:moveTo>
                  <a:pt x="100192" y="268006"/>
                </a:moveTo>
                <a:lnTo>
                  <a:pt x="229232" y="171226"/>
                </a:lnTo>
                <a:lnTo>
                  <a:pt x="342900" y="322783"/>
                </a:lnTo>
                <a:lnTo>
                  <a:pt x="456568" y="171226"/>
                </a:lnTo>
                <a:lnTo>
                  <a:pt x="585608" y="268006"/>
                </a:lnTo>
                <a:lnTo>
                  <a:pt x="443713" y="457200"/>
                </a:lnTo>
                <a:lnTo>
                  <a:pt x="585608" y="646394"/>
                </a:lnTo>
                <a:lnTo>
                  <a:pt x="456568" y="743174"/>
                </a:lnTo>
                <a:lnTo>
                  <a:pt x="342900" y="591617"/>
                </a:lnTo>
                <a:lnTo>
                  <a:pt x="229232" y="743174"/>
                </a:lnTo>
                <a:lnTo>
                  <a:pt x="100192" y="646394"/>
                </a:lnTo>
                <a:lnTo>
                  <a:pt x="242087" y="457200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ivision 30"/>
          <p:cNvSpPr/>
          <p:nvPr/>
        </p:nvSpPr>
        <p:spPr>
          <a:xfrm>
            <a:off x="3886200" y="8610480"/>
            <a:ext cx="990720" cy="838440"/>
          </a:xfrm>
          <a:custGeom>
            <a:avLst/>
            <a:gdLst>
              <a:gd name="textAreaLeft" fmla="*/ 131040 w 990720"/>
              <a:gd name="textAreaRight" fmla="*/ 859680 w 990720"/>
              <a:gd name="textAreaTop" fmla="*/ 320400 h 838440"/>
              <a:gd name="textAreaBottom" fmla="*/ 518040 h 838440"/>
            </a:gdLst>
            <a:ahLst/>
            <a:rect l="textAreaLeft" t="textAreaTop" r="textAreaRight" b="textAreaBottom"/>
            <a:pathLst>
              <a:path w="990600" h="838200">
                <a:moveTo>
                  <a:pt x="495300" y="98824"/>
                </a:moveTo>
                <a:lnTo>
                  <a:pt x="495300" y="98824"/>
                </a:lnTo>
                <a:arcTo wR="98572" hR="98572" stAng="-5400000" swAng="0"/>
                <a:close/>
                <a:moveTo>
                  <a:pt x="495300" y="739376"/>
                </a:moveTo>
                <a:lnTo>
                  <a:pt x="495300" y="739376"/>
                </a:lnTo>
                <a:arcTo wR="98572" hR="98572" stAng="5400000" swAng="0"/>
                <a:close/>
                <a:moveTo>
                  <a:pt x="131304" y="320528"/>
                </a:moveTo>
                <a:lnTo>
                  <a:pt x="859296" y="320528"/>
                </a:lnTo>
                <a:lnTo>
                  <a:pt x="859296" y="517672"/>
                </a:lnTo>
                <a:lnTo>
                  <a:pt x="131304" y="517672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2" descr="C:\Users\100418097\AppData\Local\Microsoft\Windows\Temporary Internet Files\Content.IE5\QODOL2UV\MC900431585[1].png"/>
          <p:cNvPicPr/>
          <p:nvPr/>
        </p:nvPicPr>
        <p:blipFill>
          <a:blip r:embed="rId2"/>
          <a:stretch/>
        </p:blipFill>
        <p:spPr>
          <a:xfrm>
            <a:off x="6248520" y="41148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2" descr="C:\Users\100418097\AppData\Local\Microsoft\Windows\Temporary Internet Files\Content.IE5\QODOL2UV\MC900434667[1].wmf"/>
          <p:cNvPicPr/>
          <p:nvPr/>
        </p:nvPicPr>
        <p:blipFill>
          <a:blip r:embed="rId3"/>
          <a:stretch/>
        </p:blipFill>
        <p:spPr>
          <a:xfrm>
            <a:off x="5105520" y="0"/>
            <a:ext cx="13716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17:21Z</dcterms:created>
  <dc:creator>Mobile</dc:creator>
  <dc:description/>
  <dc:language>en-US</dc:language>
  <cp:lastModifiedBy>Mobile</cp:lastModifiedBy>
  <dcterms:modified xsi:type="dcterms:W3CDTF">2010-10-22T02:07:46Z</dcterms:modified>
  <cp:revision>7</cp:revision>
  <dc:subject/>
  <dc:title>Slide 1</dc:title>
</cp:coreProperties>
</file>